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epreneurship- BIS 3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8EB8-5136-42B5-8B7C-AB7F9A79D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9E17-8A66-4455-9449-68863F7729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trepreneurship- BIS 3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4C8DC-AE3F-4DA7-A4B2-95EA1A8B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0797-0C86-4C0B-B330-78735094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B7CC-D150-49DD-BAA9-1B39B5C3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BD83-C672-433C-9908-5C000023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876D-B04C-4C20-9D6D-22CE9D35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0928-61E2-4639-8051-2FCD4B3F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2325-0F57-4197-902B-C37BA35C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2E5B-747E-49EC-B880-57C707B2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B030-AFCF-43EC-83FF-B1E05EBA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6F3D-7FC2-4B9A-B810-399084D4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C87E-223E-4836-AAA7-A0BD6A1C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BBCEC-DA28-4EE4-A712-65A9232D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A8DB-6533-4339-BEF4-8C414AF7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19BE-E573-44D9-AAFF-20393945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2C81-32F1-42EB-9A65-D3DD88D8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941C-33CE-4300-A537-9FFE651E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B838-06F9-40C7-B3D1-1D225659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F2FA0-412A-4713-8F31-4E52FACC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6799-2A20-4635-8834-97C65D57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7827-C15B-4138-A61A-7CB5AF7C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E57C-8276-412F-BBB0-B8B6EE05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27F9-6043-4037-A6FB-09131D84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AC5D-D955-4499-91EB-2FBBF617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012F7-8536-4B40-AF35-4737DBC3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trepreneurship- BIS 3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739E-511A-4AA0-9390-B086D12FFD0B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8225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trepreneurship- BIS 3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C3B6-F081-4742-B65B-10426EDCAAB3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5640" y="1828800"/>
            <a:ext cx="6705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 AND BEVERAGE MANAG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ons, Ratios and Contrac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1AFA-D40E-42D4-8721-5E10EE9C05DA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MELIOR logo"/>
          <p:cNvPicPr/>
          <p:nvPr/>
        </p:nvPicPr>
        <p:blipFill>
          <a:blip r:embed="rId1"/>
          <a:stretch/>
        </p:blipFill>
        <p:spPr>
          <a:xfrm>
            <a:off x="7236000" y="374760"/>
            <a:ext cx="1755720" cy="622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2795760" y="5072040"/>
            <a:ext cx="6348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62f05"/>
                </a:solidFill>
                <a:latin typeface="Arial"/>
              </a:rPr>
              <a:t>Strategic Alliance between</a:t>
            </a:r>
            <a:br>
              <a:rPr sz="4000"/>
            </a:br>
            <a:r>
              <a:rPr b="0" lang="en-US" sz="4000" spc="-1" strike="noStrike">
                <a:solidFill>
                  <a:srgbClr val="a62f05"/>
                </a:solidFill>
                <a:latin typeface="Arial"/>
              </a:rPr>
              <a:t>Hotels and Restaur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56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ur key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are the hotel customers’ F&amp;B needs and expecta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ich F&amp;B concept best aligns with the positioning of the hot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converting the restaurant to a brand name restaurant improve the hotel’s bottom li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turning to a brand name F&amp;B operation give the hotel a competitive advant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http://www.fotosearch.com/bthumb/UNC/UNC241/u13891886.jpg"/>
          <p:cNvPicPr/>
          <p:nvPr/>
        </p:nvPicPr>
        <p:blipFill>
          <a:blip r:embed="rId1"/>
          <a:stretch/>
        </p:blipFill>
        <p:spPr>
          <a:xfrm>
            <a:off x="6400800" y="4813200"/>
            <a:ext cx="27432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62f05"/>
                </a:solidFill>
                <a:latin typeface="Arial"/>
              </a:rPr>
              <a:t>Strategic Alliance between</a:t>
            </a:r>
            <a:br>
              <a:rPr sz="4000"/>
            </a:br>
            <a:r>
              <a:rPr b="0" lang="en-US" sz="4000" spc="-1" strike="noStrike">
                <a:solidFill>
                  <a:srgbClr val="a62f05"/>
                </a:solidFill>
                <a:latin typeface="Arial"/>
              </a:rPr>
              <a:t>Hotels and Restaur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56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asons for alliance between brand name hotel and restaura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e financial benef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 guests with greater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mprove the hotel’s overall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engthen the hotel’s competitive advan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e operational advan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" descr="http://www.fotosearch.com/bthumb/UNC/UNC241/u13891886.jpg"/>
          <p:cNvPicPr/>
          <p:nvPr/>
        </p:nvPicPr>
        <p:blipFill>
          <a:blip r:embed="rId1"/>
          <a:stretch/>
        </p:blipFill>
        <p:spPr>
          <a:xfrm>
            <a:off x="6400800" y="4813200"/>
            <a:ext cx="27432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62f05"/>
                </a:solidFill>
                <a:latin typeface="Arial"/>
              </a:rPr>
              <a:t>Strategic Alliance between</a:t>
            </a:r>
            <a:br>
              <a:rPr sz="4000"/>
            </a:br>
            <a:r>
              <a:rPr b="0" lang="en-US" sz="4000" spc="-1" strike="noStrike">
                <a:solidFill>
                  <a:srgbClr val="a62f05"/>
                </a:solidFill>
                <a:latin typeface="Arial"/>
              </a:rPr>
              <a:t>Hotels and Restaur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6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ypes of restaura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F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t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ho 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sual /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 Fre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zza H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http://www.fotosearch.com/bthumb/UNC/UNC241/u13891886.jpg"/>
          <p:cNvPicPr/>
          <p:nvPr/>
        </p:nvPicPr>
        <p:blipFill>
          <a:blip r:embed="rId1"/>
          <a:stretch/>
        </p:blipFill>
        <p:spPr>
          <a:xfrm>
            <a:off x="6400800" y="4813200"/>
            <a:ext cx="2743200" cy="2044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4648320" y="1447920"/>
            <a:ext cx="4114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249"/>
              </a:spcBef>
              <a:buClr>
                <a:srgbClr val="ff99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1303"/>
                </a:solidFill>
                <a:latin typeface="Arial"/>
                <a:ea typeface="Arial"/>
              </a:rPr>
              <a:t>Up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1303"/>
                </a:solidFill>
                <a:latin typeface="Arial"/>
                <a:ea typeface="Arial"/>
              </a:rPr>
              <a:t>Yee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1303"/>
                </a:solidFill>
                <a:latin typeface="Arial"/>
                <a:ea typeface="Arial"/>
              </a:rPr>
              <a:t>Au Lac Do Braz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1303"/>
                </a:solidFill>
                <a:latin typeface="Arial"/>
                <a:ea typeface="Arial"/>
              </a:rPr>
              <a:t>Li Bai @ Shera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249"/>
              </a:spcBef>
              <a:buClr>
                <a:srgbClr val="ff99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1303"/>
                </a:solidFill>
                <a:latin typeface="Arial"/>
                <a:ea typeface="Arial"/>
              </a:rPr>
              <a:t>T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1303"/>
                </a:solidFill>
                <a:latin typeface="Arial"/>
                <a:ea typeface="Arial"/>
              </a:rPr>
              <a:t>Hard Rock Caf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Restaurant Franchi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56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Helps to reposition hot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ay increase revenues, occupancy, prof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ranchiser is continually assessing and improving men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ranchiser is knowledgeable about restaurant busi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ranchise fe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High initial invest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quires a certain volume to warrant using a franchise br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Restaurant Franchi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actors to consid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sired hotel position and customer perception you want to create for your hote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ssess the revenue and costs, profitability of having a franchised brand restau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elect a restaurant company that has the same corporate culture and shares the same operational go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sider the menu offered, restaurant décor, training support and management support from franchiser, and ability to handle room serv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Contract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712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4 types of relationships between hotel and F&amp;B out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nally developed restaurant br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ranchised restaurant br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aight 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agement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http://www.fotosearch.com/bthumb/UNC/UNC111/u10329855.jpg"/>
          <p:cNvPicPr/>
          <p:nvPr/>
        </p:nvPicPr>
        <p:blipFill>
          <a:blip r:embed="rId1"/>
          <a:stretch/>
        </p:blipFill>
        <p:spPr>
          <a:xfrm>
            <a:off x="6248520" y="3909960"/>
            <a:ext cx="28954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Contract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3712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f7300"/>
                </a:solidFill>
                <a:latin typeface="Arial"/>
                <a:ea typeface="Arial"/>
              </a:rPr>
              <a:t>Internally developed restaurant br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otel develops own restaurant with little outside help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 restaurant is a unit belonging to the hotel controlled by F&amp;B direc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dvantages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Hotel has total control over all the opera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No need to pay any fees to outside parties, hotel keeps all prof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http://www.fotosearch.com/bthumb/CSP/CSP424/k4249092.jpg"/>
          <p:cNvPicPr/>
          <p:nvPr/>
        </p:nvPicPr>
        <p:blipFill>
          <a:blip r:embed="rId1"/>
          <a:stretch/>
        </p:blipFill>
        <p:spPr>
          <a:xfrm>
            <a:off x="7543800" y="5257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Contract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3712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el may not have the expertise to successfully run a restaurant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veloping the restaurant into a famous brand takes a longe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http://www.fotosearch.com/bthumb/CSP/CSP424/k4249092.jpg"/>
          <p:cNvPicPr/>
          <p:nvPr/>
        </p:nvPicPr>
        <p:blipFill>
          <a:blip r:embed="rId1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Contract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371240"/>
            <a:ext cx="8183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7300"/>
                </a:solidFill>
                <a:latin typeface="Arial"/>
                <a:ea typeface="Arial"/>
              </a:rPr>
              <a:t>Franchised restaurant br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tel buys a franchise from a famous restaurant franchis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ranchisee (hotel) operates the restaurant according to the guidelines laid down by franchisor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éc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od prepa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http://www.fotosearch.com/bthumb/CSP/CSP424/k4249092.jpg"/>
          <p:cNvPicPr/>
          <p:nvPr/>
        </p:nvPicPr>
        <p:blipFill>
          <a:blip r:embed="rId1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Contract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3712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hisor has the expertise and know-h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hisor can provide training to the personnel in the restau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ranchisor’s brand is already a recognized brand with a ready customer 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franchise f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el has less control in the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http://www.fotosearch.com/bthumb/CSP/CSP424/k4249092.jpg"/>
          <p:cNvPicPr/>
          <p:nvPr/>
        </p:nvPicPr>
        <p:blipFill>
          <a:blip r:embed="rId1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Operational Inter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3716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-262080"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 &amp; B division and other units are mutually depend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re should be direct interaction betwee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ront desk and F &amp; B - specific guest requ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ales department and banquet unit – banquet and conventions book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 &amp; B and Front Office – announce new menu or special activ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Guest relations unit and F &amp; B – feedback on utilization rate of F &amp; B outle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http://www.fotosearch.com/bthumb/ARP/ARP116/Contintl.jpg"/>
          <p:cNvPicPr/>
          <p:nvPr/>
        </p:nvPicPr>
        <p:blipFill>
          <a:blip r:embed="rId1"/>
          <a:stretch/>
        </p:blipFill>
        <p:spPr>
          <a:xfrm>
            <a:off x="7524720" y="5429160"/>
            <a:ext cx="1619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Contract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371240"/>
            <a:ext cx="8183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f7300"/>
                </a:solidFill>
                <a:latin typeface="Arial"/>
                <a:ea typeface="Arial"/>
              </a:rPr>
              <a:t>Straight le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otel rents out the space inside the hotel to an outside restaurant compan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otel only collects rent; it has no say in the operations of the restau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dvantag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Guaranteed revenue from rent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sadvantag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Little control over the oper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staurant may be a mismatch with th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hotel’s positio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http://www.fotosearch.com/bthumb/CSP/CSP424/k4249092.jpg"/>
          <p:cNvPicPr/>
          <p:nvPr/>
        </p:nvPicPr>
        <p:blipFill>
          <a:blip r:embed="rId1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Contract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7300"/>
                </a:solidFill>
                <a:latin typeface="Arial"/>
                <a:ea typeface="Arial"/>
              </a:rPr>
              <a:t>Management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tel lets an outside company manage its restaur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tel pays the company a management fe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agement company is responsible for recruitment, selection and training, as well as all day-to-day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rsonnel may or may not 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der the payroll of hot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2" descr="http://www.fotosearch.com/bthumb/CSP/CSP424/k4249092.jpg"/>
          <p:cNvPicPr/>
          <p:nvPr/>
        </p:nvPicPr>
        <p:blipFill>
          <a:blip r:embed="rId1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Contract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3712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agement company has the expertise and know-h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agement fees and possibly profi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el has little control in the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http://www.fotosearch.com/bthumb/CSP/CSP424/k4249092.jpg"/>
          <p:cNvPicPr/>
          <p:nvPr/>
        </p:nvPicPr>
        <p:blipFill>
          <a:blip r:embed="rId1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Hotel Ca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371240"/>
            <a:ext cx="8183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fers to providing food and beverage service outside of a restaurant / bar / café sett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ay be done in a meeting room / ballroom / courtyard / garden or other loca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 F&amp;B division is in charge of not only food preparation but also decorations, such as table settings and light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 huge revenue generator for the hot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igh visibility and can create an im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or the hot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http://www.fotosearch.com/bthumb/CSP/CSP469/k4699961.jpg"/>
          <p:cNvPicPr/>
          <p:nvPr/>
        </p:nvPicPr>
        <p:blipFill>
          <a:blip r:embed="rId1"/>
          <a:stretch/>
        </p:blipFill>
        <p:spPr>
          <a:xfrm>
            <a:off x="7086600" y="4359240"/>
            <a:ext cx="20574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Hotel Catering - Personn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rector of catering (reports to director of F&amp;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sees all catering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rks closely with Director of Sales and Mark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tering managers (reports to director of cate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intain client contacts, plan menus, themes, room set up, décor, negotiate with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http://www.fotosearch.com/bthumb/CSP/CSP469/k4699961.jpg"/>
          <p:cNvPicPr/>
          <p:nvPr/>
        </p:nvPicPr>
        <p:blipFill>
          <a:blip r:embed="rId1"/>
          <a:stretch/>
        </p:blipFill>
        <p:spPr>
          <a:xfrm>
            <a:off x="7086600" y="4648320"/>
            <a:ext cx="2057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Hotel Catering - Personn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Banquet Manager (reports to director of cateri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upervises maitre d’, room captains, servers, bartende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cts on director of catering’s requ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upervises table settings and déc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cheduler (in a big catering operation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lans the rooms, reception area and time sche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Keeps records to avoid overbooking o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ouble book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" descr="http://www.fotosearch.com/bthumb/CSP/CSP469/k4699961.jpg"/>
          <p:cNvPicPr/>
          <p:nvPr/>
        </p:nvPicPr>
        <p:blipFill>
          <a:blip r:embed="rId1"/>
          <a:stretch/>
        </p:blipFill>
        <p:spPr>
          <a:xfrm>
            <a:off x="7086600" y="4876920"/>
            <a:ext cx="2057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Hotel Catering - Personn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aitre d’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upervises all service personnel including captains, servers &amp; all aspects of guest ser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p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anages a section or a specific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upervises the servers in the section or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er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erves either food or bever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Bartend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erves alcoholic drin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http://www.fotosearch.com/bthumb/CSP/CSP469/k4699961.jpg"/>
          <p:cNvPicPr/>
          <p:nvPr/>
        </p:nvPicPr>
        <p:blipFill>
          <a:blip r:embed="rId1"/>
          <a:stretch/>
        </p:blipFill>
        <p:spPr>
          <a:xfrm>
            <a:off x="7086600" y="4952880"/>
            <a:ext cx="2057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Hotel Catering - Personn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eward / Hous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t up the equipment, tables , chairs, glasswar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ockery and cutl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gineering department perso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 necessary utilities such as air-conditioning, electrical wiring, audio visual equipment, ban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" descr="http://www.fotosearch.com/bthumb/CSP/CSP469/k4699961.jpg"/>
          <p:cNvPicPr/>
          <p:nvPr/>
        </p:nvPicPr>
        <p:blipFill>
          <a:blip r:embed="rId1"/>
          <a:stretch/>
        </p:blipFill>
        <p:spPr>
          <a:xfrm>
            <a:off x="7086600" y="4952880"/>
            <a:ext cx="2057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Operational Inter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520" y="13716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 &amp; B manager must know who the customers are, what they like and how many customers to expect with the input from other departments and un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 hotel employee should be trained to refer / recommend F &amp; B services to gue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http://www.fotosearch.com/bthumb/ARP/ARP116/Contintl.jpg"/>
          <p:cNvPicPr/>
          <p:nvPr/>
        </p:nvPicPr>
        <p:blipFill>
          <a:blip r:embed="rId1"/>
          <a:stretch/>
        </p:blipFill>
        <p:spPr>
          <a:xfrm>
            <a:off x="7524720" y="5429160"/>
            <a:ext cx="1619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Operating Ratios - import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Food and Beverage Sales per Available Roo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otal food and beverage sal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= $? per roo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o. of rooms availab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Food and Beverage Occupanc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umber of cover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=  ? tur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umber of sea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Sales per Available Se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otal food and beverage sal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=  $ per se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o. of seats availab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4572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verage Che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otal food and beverage sal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= $A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no. of cov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atio of Beverage Sales to Food Sa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verage sal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x 100% = ? 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ood Sa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ood Cost Percent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st of foo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x 100% =  ? 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ood sa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Labor Cost Percent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&amp;B Labor Cos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x 100% =  ? 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&amp;B sa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Director of Food and Bever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3716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Objectiv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et and exceed guests’ needs and expectations by ensuring proper service standards, providing quality food and beverages, managing all aspects of opera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ovide all guests with the highest quality F&amp;B experience by working as a team with all F&amp;B outlets, ensuring prompt, polite and professional services, resulting in increasing employee morale, decreasing turnover rates and lowering service tim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http://www.fotosearch.com/bthumb/CSP/CSP432/k4326421.jpg"/>
          <p:cNvPicPr/>
          <p:nvPr/>
        </p:nvPicPr>
        <p:blipFill>
          <a:blip r:embed="rId1"/>
          <a:stretch/>
        </p:blipFill>
        <p:spPr>
          <a:xfrm>
            <a:off x="7524720" y="5372280"/>
            <a:ext cx="16192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Director of Food and Bever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3716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ek profitability in the F&amp;B department by decreasing all costs, maximizing sales in all outlets, achieving budget and profit guidelines, meeting and / or exceeding long / short range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http://www.fotosearch.com/bthumb/CSP/CSP432/k4326421.jpg"/>
          <p:cNvPicPr/>
          <p:nvPr/>
        </p:nvPicPr>
        <p:blipFill>
          <a:blip r:embed="rId1"/>
          <a:stretch/>
        </p:blipFill>
        <p:spPr>
          <a:xfrm>
            <a:off x="7524720" y="5372280"/>
            <a:ext cx="16192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Director of Food and Bever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56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pecific Operations Functio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ovide the highest quality in food, beverage and service in all outle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t least one daily walk through of all F&amp;B are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aintain existing programs and develop new progra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aily talks with all staffs and manag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aintain high quality image through effective housekeeping and sani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aintain physical security for all outlets and invento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Know local competition and industry tre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hange menus based on seasonalit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nd product availa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http://www.fotosearch.com/bthumb/CSP/CSP432/k4326421.jpg"/>
          <p:cNvPicPr/>
          <p:nvPr/>
        </p:nvPicPr>
        <p:blipFill>
          <a:blip r:embed="rId1"/>
          <a:stretch/>
        </p:blipFill>
        <p:spPr>
          <a:xfrm>
            <a:off x="7524720" y="5372280"/>
            <a:ext cx="16192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Director of Food and Bever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56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fic Management Fun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rects and coordinates all activities of personnel and departmental respon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ily contacts with staff and performance re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keting of each F&amp;B out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hieve budgeted sales and maximum prof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intain fair wage and salary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http://www.fotosearch.com/bthumb/CSP/CSP432/k4326421.jpg"/>
          <p:cNvPicPr/>
          <p:nvPr/>
        </p:nvPicPr>
        <p:blipFill>
          <a:blip r:embed="rId1"/>
          <a:stretch/>
        </p:blipFill>
        <p:spPr>
          <a:xfrm>
            <a:off x="7524720" y="5372280"/>
            <a:ext cx="16192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8:17:07Z</dcterms:created>
  <dc:creator>Craig Brogan</dc:creator>
  <dc:description/>
  <dc:language>en-US</dc:language>
  <cp:lastModifiedBy>robert</cp:lastModifiedBy>
  <dcterms:modified xsi:type="dcterms:W3CDTF">2011-04-13T07:38:13Z</dcterms:modified>
  <cp:revision>106</cp:revision>
  <dc:subject/>
  <dc:title>Presentation Module 2</dc:title>
</cp:coreProperties>
</file>